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FF4C86-C105-4AAD-9EFF-114F5007EB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B6BB7-2C06-494B-897D-3653CD6D5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237B86-A33E-4828-83F4-D8A75EA512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2BF833-0F51-4880-AAAF-CE7172EBDF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AA6B28-FD92-42E4-B14D-8C17708471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41391F-BBFD-4694-99F2-168589AA45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DFD2BB-F5EA-403D-ACAE-C2F7ECD88A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CC0CB3-314D-4185-BECD-6BE3B9944A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BB9A25-51A2-498C-B439-6B95E9B6AD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D6AC73-795B-411C-991F-2638425359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3421B-3480-4B8C-B3EA-301ED0F3FA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98E36-F39A-428B-A401-FD815812B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1A10B-A2C7-4823-8F26-DBA13DCBDF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490B5B-2FF9-4175-8EDE-8A649133A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D17877-8D97-4B7D-89B5-590D7175CE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E65197-E338-427F-BD70-B3928C8A83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25528C-7B76-4497-801E-82F79C483E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5E829-D998-4568-93D3-1B1E890F8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8742F-6FC4-4148-A912-4B25BF775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8172B-F490-417D-96D9-1D8AF322D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48521-1B44-4F28-AD61-E23258D6D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5ECD3-76E3-454D-B676-E7775BD02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7EBAC-3AE0-4511-9B7A-3080DC2C3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B822C-076B-4841-B46F-F9EF4D4706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D7AD3-01F6-488A-B53F-AD18698EF548}"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60852-A409-44F6-8553-C2E31CF8EED2}"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76176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lcolm X</a:t>
            </a:r>
            <a:endParaRPr b="0" lang="en-US" sz="4400" spc="-1" strike="noStrike">
              <a:solidFill>
                <a:srgbClr val="000000"/>
              </a:solidFill>
              <a:latin typeface="Times New Roman"/>
            </a:endParaRPr>
          </a:p>
        </p:txBody>
      </p:sp>
      <p:sp>
        <p:nvSpPr>
          <p:cNvPr id="83" name="PlaceHolder 2"/>
          <p:cNvSpPr>
            <a:spLocks noGrp="1"/>
          </p:cNvSpPr>
          <p:nvPr>
            <p:ph type="subTitle"/>
          </p:nvPr>
        </p:nvSpPr>
        <p:spPr>
          <a:xfrm>
            <a:off x="1523520" y="2438280"/>
            <a:ext cx="6782040" cy="2819520"/>
          </a:xfrm>
          <a:prstGeom prst="rect">
            <a:avLst/>
          </a:prstGeom>
          <a:noFill/>
          <a:ln w="0">
            <a:noFill/>
          </a:ln>
          <a:effectLst>
            <a:outerShdw dist="12727" dir="8100000" blurRad="0" rotWithShape="0">
              <a:srgbClr val="ffffff">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sential Question: What were the effects of Malcolm X and his teachings on the civil rights movemen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endan Gree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rn Malcolm Little May 29,1925</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52 converts to Islam, changes name to Malcolm X, </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54 Named Nation of Islam spokesperson</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ly accredited for increasing Islam converts from 500 in 1952 to 30,000 in 1963, and sets up mosques in Chicago, Detroit, New York, and Philadelphia</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64 Malcolm X publicly terminates his association with NOI</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bruary 21,1965 Malcolm X is murdered by NOI member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lanation</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verts 25,500 to Islam  from 1952 to 1963</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verts Muhammad Ali to Islam</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53 Changes name from Malcolm Little to Malcolm X and becomes Assistant Minister of Nation of Islam's Detroit Templ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December 1953, a little more than a year after he was paroled from prison, Malcolm was named the minister at the NOI's Boston mosque, Temple No. 11. The following year he also became the minister at Temple No. 12 (Philadelphia) and Temple No. 7 (New York).</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63 Nation of Islam orders Malcolm X to be silent, allegedly because of remarks concerning President Kennedy's assassinatio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lanation</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7000"/>
          </a:bodyPr>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1963, the New York Times reported that Malcolm X was the second most sought after speaker in the United States.</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June 29, 1963 Malcolm lead the Unity Rally in Harlem. It was one of the nations largest civil rights events.</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ch, 1964 Malcolm X leaves the Nation of Islam and starts his new organization, Muslim Mosque, Inc.</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1964 Starts the Organization of Afro-American Unity (OAAU), a secular political group.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bruary 21, 1965 Malcolm X is assassinated as he begins speaking at the Audubon Ballroom, New Y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conclusion Malcolm X was an influential speaker and leader of the civil rights movement. His avocation for black separatism and black power lead to the rise of Islam in the United States, and rise of black advancemen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his teachings had a negative effect as well as positive. His teachings of white hate and black power lead to the rise of the Black Panthers, and the criminal organizations such as the Black Mafia of Philadelphia, and The Crips of L.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14:16:08Z</dcterms:created>
  <dc:creator>PA Department of Education</dc:creator>
  <dc:description/>
  <dc:language>en-US</dc:language>
  <cp:lastModifiedBy>PA Department of Education</cp:lastModifiedBy>
  <dcterms:modified xsi:type="dcterms:W3CDTF">2008-05-29T13:55:55Z</dcterms:modified>
  <cp:revision>2</cp:revision>
  <dc:subject/>
  <dc:title>Malcolm X</dc:title>
</cp:coreProperties>
</file>